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1474-93CA-41F1-AD51-0D3D31B32D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id the Mormons Manage to survive Salt Lake Cit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the Mormons Manage to survive Salt Lake C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eographical Position of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ographical Position of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igham Yo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or Plan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mons had faith in their lea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sational Ski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ting up supply depots and worksh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and ownershi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uaded the U.S. Government to elect him Governor of Utah terri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gham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mons had faith in their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al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 up supply depots and work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and own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ded the U.S. Government to elect him Governor of Utah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ygam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igham Young had 27 wi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 Mormons apart as immoral outca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abled every woman to be taken care o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rger pop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ving more than one wif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ga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gham Young had 27 w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Mormons apart as immoral outc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abled every woman to be taken car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r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more than one w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lf Sufficiency and the Railw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mons were farm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rigation syste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at production triplede between 1850-186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one contribu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ilway ran through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travelling eas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trade a possibility – especially as a way of increasing inco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Sufficiency and the Rail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mons were 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igation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at production triplede between 1850-18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contrib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lway ran through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travelling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trade a possibility – especially as a way of increasing in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petual Emigrating Fu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 up by Brigham Yo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ed Mormons travel from anywhere to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ey to be paid back once settl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225 Mormons had reached Utah using th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petual Emigrating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by Brigham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d Mormons travel from anywhere to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 to be paid back once sett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5 Mormons had reached Utah using t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2B4A-F466-4E68-AC8C-EB3C7BD2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EB68-FB1C-4EE4-A32B-D8C355CD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17CA-A3C8-42E9-ABBA-33364E004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5908-F44D-4D83-9F95-19AFD00A7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A0A2-9BB2-4F4C-8DF1-2F881B86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512A-22C5-4D96-BCD5-DE7A1F6D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A7D4-D10E-49C7-8161-1E83E50D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0674-1F62-4A24-8A9A-1DDDB247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D818-3C2A-4120-BE58-E31803C5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187A-2989-40A0-9225-48969D3C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0DB7-7F3D-43B6-B0D4-75B78192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271E-346E-448D-9EA1-CA1DF5F8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01F9-8352-4E44-B85C-472417E05C1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ccffff"/>
                </a:solidFill>
                <a:latin typeface="Arial"/>
              </a:rPr>
              <a:t>Why did the Mormons Manage to survive Salt Lake City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he American 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ccffff"/>
                </a:solidFill>
                <a:latin typeface="Arial"/>
              </a:rPr>
              <a:t>The Geographical Position of Utah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9" descr="usa%20map%20copy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Brigham You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525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Prior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rmons had faith in their lea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Organisational Sk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ting up supply depots and worksh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No land ow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Persuaded the U.S. Government to elect him Governor of Utah terri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6" descr="Brigham%2520Young"/>
          <p:cNvPicPr/>
          <p:nvPr/>
        </p:nvPicPr>
        <p:blipFill>
          <a:blip r:embed="rId1"/>
          <a:stretch/>
        </p:blipFill>
        <p:spPr>
          <a:xfrm>
            <a:off x="5867280" y="1628640"/>
            <a:ext cx="2881440" cy="446436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Polygam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Brigham Young had 27 w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 Mormons apart as immoral outca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Enabled every woman to be taken care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Larger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6" descr="polygamy-thumb"/>
          <p:cNvPicPr/>
          <p:nvPr/>
        </p:nvPicPr>
        <p:blipFill>
          <a:blip r:embed="rId1"/>
          <a:stretch/>
        </p:blipFill>
        <p:spPr>
          <a:xfrm>
            <a:off x="611280" y="1557360"/>
            <a:ext cx="3529080" cy="31669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611280" y="4941720"/>
            <a:ext cx="36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Having more than one w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Self Sufficiency and the Railwa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rmons were 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Irrigation syst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Wheat production triplede between 1850-18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Everyone contribu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Railway ran through Ut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ade travelling eas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ade trade a possibility – especially as a way of increasing in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Perpetual Emigrating Fun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 up by Brigham Yo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Helped Mormons travel from anywhere to Ut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ney to be paid back once sett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4225 Mormons had reached Utah using th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5" descr="MCj03841700000[1]"/>
          <p:cNvPicPr/>
          <p:nvPr/>
        </p:nvPicPr>
        <p:blipFill>
          <a:blip r:embed="rId1"/>
          <a:stretch/>
        </p:blipFill>
        <p:spPr>
          <a:xfrm>
            <a:off x="5292720" y="1700280"/>
            <a:ext cx="3166920" cy="43927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14:08:17Z</dcterms:created>
  <dc:creator>Carol</dc:creator>
  <dc:description>Why did the Mormons Manage to survive Salt Lake City?</dc:description>
  <cp:keywords>Why did the Mormons Manage to survive Salt Lake City?</cp:keywords>
  <dc:language>en-US</dc:language>
  <cp:lastModifiedBy>LEGION</cp:lastModifiedBy>
  <dcterms:modified xsi:type="dcterms:W3CDTF">2017-07-03T11:27:00Z</dcterms:modified>
  <cp:revision>8</cp:revision>
  <dc:subject>Why did the Mormons Manage to survive Salt Lake City?</dc:subject>
  <dc:title>Why did the Mormons Manage to survive Salt Lake City?</dc:title>
</cp:coreProperties>
</file>